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967B-2A5C-4401-9A25-54B04F46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D204-B9D7-41B6-B31A-AFF74F84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8DD8-9288-45E9-9653-24BFC70B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011E-1796-4580-AC18-0CFE56A1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C0B5-F545-4411-93C7-2F1F3F95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6071-F9EE-4ACE-AF31-592F5229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2D7F-35AC-4D60-8BD9-8C47B2F0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FBF5-4E44-4690-9D47-0121CDCC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D441-D8E5-4D04-A89D-D96E68C0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0E51-5552-4C57-BD4D-C88F03D0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D812-459A-4F36-8A35-30CE0B2A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98F6-8F3B-4CB8-B8F5-4D3EB154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D6B3-76AA-47BC-B8DA-A85D8AD96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1599840"/>
            <a:ext cx="3809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 9-2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make predictions as I read and look to see if my predictions are accur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14800" y="609480"/>
            <a:ext cx="5029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picture.  What do you think will happen N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86200" y="2286000"/>
            <a:ext cx="525780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828800" y="151920"/>
            <a:ext cx="73152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the text to make an educated guess on what might happen NEX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6781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o Is the Dark-Haired On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 MODEL predict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the students to the front of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reading at the top of page 23 with “You will not object if we look 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read, STOP and tell the kids MY predictions.  The next slides shows you exactly what to write on the post-it note that you will stick to the Chart Paper Graphic Organiz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reading when you get to the bottom of page 2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ing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Says   +     I Know    =      MIGHT happen NEX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EDI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676520"/>
            <a:ext cx="22096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en,” she whisp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ently, “take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cklace off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1676520"/>
            <a:ext cx="266724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wish people w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ar of Dav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ound their ne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ymboliz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ere Jew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azi soldiers w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for Jewi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to pu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tion cam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676520"/>
            <a:ext cx="228600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zi soldiers wi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en is Jewis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y will take 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343400"/>
            <a:ext cx="228600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did you 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rk-haired one?”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wisted the lock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en’s hair.  “Fro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father?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ilkman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4343400"/>
            <a:ext cx="25909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eople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lted by othe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get ang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4419720"/>
            <a:ext cx="236232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predict that the 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get angry with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diers and yell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Breadwinner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Make 3 predictions on the text as you re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Complete the answers in the packe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tudents will read in their own book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the kids back together with five minutes left of class, and have them share some of their predi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8:39:18Z</dcterms:created>
  <dc:creator>Administrator</dc:creator>
  <dc:description/>
  <dc:language>en-US</dc:language>
  <cp:lastModifiedBy>Administrator</cp:lastModifiedBy>
  <dcterms:modified xsi:type="dcterms:W3CDTF">2010-09-15T14:02:01Z</dcterms:modified>
  <cp:revision>6</cp:revision>
  <dc:subject/>
  <dc:title>Do Now 9-22 I can make predictions as I read and look to see if my predictions are accurate.</dc:title>
</cp:coreProperties>
</file>